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F75D-D9A5-4CA8-9CE4-43D1BBD98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9AD4-F1F7-4D6F-8815-2EAA21656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293C-5ECD-40F9-A0C9-EB57D8A3C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DAC9-F85B-44ED-AB87-05784CE5E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817AA-DD7F-4FEC-9CDE-FF55E652D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F1049-8362-42B2-BFE6-413A57512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6A757-478D-4680-8997-7E2DBAA45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2DBB2-B98C-4E8D-B983-5463F5136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B41CF-0F85-4755-8D8D-B3D94A57C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DECCB-196A-48CC-9D75-036E1ECFE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638BE-521C-4EC3-B54D-E93E9162F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7EFE-D310-46B5-BBA9-F9DF673B2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5B1A9-D1D4-4D6A-93CC-BA817178C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01C1A-F86C-4FDF-8D9F-8996A089A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57AC7-A7E3-4FB0-B938-26FAA22D7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B2AC1-C475-4AEC-A403-245F18437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15E5A-C07E-43D7-BB77-1F18C1BC7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ECEA-143F-44A4-B604-0C4D2E925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E645-3923-491D-A2CB-831FF5F22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53E1-E9B4-4C50-9F82-5CF0791D1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DE9B-40A8-4848-8817-9DAC56DB3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4C38-0056-40E4-9BD3-104CEB7B4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564A-64BD-4B8C-9035-8DD47DCF2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B87B-441A-4D47-B847-A54229AF0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484F4-792B-4B49-97F7-B0179FD5A354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4FFDF-A951-46A8-B680-722E8295FA4A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2;&#1077;&#1090;&#1077;&#1086;&#1088;&#1072;" TargetMode="External"/><Relationship Id="rId2" Type="http://schemas.openxmlformats.org/officeDocument/2006/relationships/hyperlink" Target="http://www.pravoslavie.ru/put/meteora.htm" TargetMode="External"/><Relationship Id="rId3" Type="http://schemas.openxmlformats.org/officeDocument/2006/relationships/hyperlink" Target="http://www.edwebproject.org/balkans/meteora.html" TargetMode="External"/><Relationship Id="rId4" Type="http://schemas.openxmlformats.org/officeDocument/2006/relationships/hyperlink" Target="http://www.wdbydana.com/meteora.htm" TargetMode="External"/><Relationship Id="rId5" Type="http://schemas.openxmlformats.org/officeDocument/2006/relationships/hyperlink" Target="http://www.ippo.ru/novosti-2009-g./monastyri-meteory-paryat-v-vozduhe.html" TargetMode="External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Метеора – монастыри «парящие в воздухе»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503520" y="32004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34136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тудентка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V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урс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34136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Филологическог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34136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факультет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34136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одянова Е. Ю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34136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"/>
          <p:cNvSpPr/>
          <p:nvPr/>
        </p:nvSpPr>
        <p:spPr>
          <a:xfrm>
            <a:off x="3719520" y="5654520"/>
            <a:ext cx="1082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01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Основополагающий вопрос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Какую ценность несет в себе красота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Что мы можем узнать?</a:t>
            </a:r>
            <a:br>
              <a:rPr sz="4400"/>
            </a:b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Что такое монастыри Метеора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Для чего и кем они создавались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акое значение для человечества они имеют в настоящее время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Дидактические цели проект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знакомление ребят с таким уникальным явлением, как монастыри Метеора. Объяснить их природное, культурное и духовное значени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Метеодические задачи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Научить самостоятельно собирать информацию, рассуждать и делать вывод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Расширить кругозор учащихс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Представление результатов исследования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Эсс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очине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ворческая презентац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Фото-репортаж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Продолжительность проект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одолжительность составляет от одного до двух урок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Этапы проведения проект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 Вводный урок, показ презентации учителя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. Поиск материалов учениками, работа над презентацией, составление фото-репортажа, написание эссе и сочинения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. Урок подведения итогов. Показ учащимися своих работ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Интернет ресурсы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Tahoma"/>
                <a:hlinkClick r:id="rId1"/>
              </a:rPr>
              <a:t>http://ru.wikipedia.org/wiki/Метеор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Tahoma"/>
                <a:hlinkClick r:id="rId2"/>
              </a:rPr>
              <a:t>http://www.pravoslavie.ru/put/meteora.ht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Tahoma"/>
                <a:hlinkClick r:id="rId3"/>
              </a:rPr>
              <a:t>http://www.edwebproject.org/balkans/meteora.htm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Tahoma"/>
                <a:hlinkClick r:id="rId4"/>
              </a:rPr>
              <a:t>http://www.wdbydana.com/meteora.ht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Tahoma"/>
                <a:hlinkClick r:id="rId5"/>
              </a:rPr>
              <a:t>http://www.ippo.ru/novosti-2009-g./monastyri-meteory-paryat-v-vozduhe.html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0-05-10T18:58:15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